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D44-BC4F-41AE-BD96-61D1685F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91D-0AD2-495F-9C86-A9D8894C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2BD-BA9E-4500-B05F-ACF9FAD0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41F-C096-43F9-AB8A-BF813B0B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B41-8FF4-4389-AA90-A5C55FCB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470-A466-4E11-8261-A8623A9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E46-8738-4399-A35A-7DFF157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B28-C72B-4EAA-8CE0-339FFCD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9B5-81C7-43BB-AD0E-B2E95F4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251-54C0-4606-94E6-BFB9666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A53-9B7C-4472-9841-F5A5EFF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5CB-20F1-4338-9724-36E4374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3F6-A669-498E-8458-F5201CB9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51:17Z</dcterms:created>
  <dc:creator>abeason</dc:creator>
  <dc:description/>
  <dc:language>en-US</dc:language>
  <cp:lastModifiedBy>abeason</cp:lastModifiedBy>
  <dcterms:modified xsi:type="dcterms:W3CDTF">2009-02-11T18:51:19Z</dcterms:modified>
  <cp:revision>1</cp:revision>
  <dc:subject/>
  <dc:title>Slide 1</dc:title>
</cp:coreProperties>
</file>